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1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1383-348A-4859-9237-1684CCEA7398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D0B-846F-42B1-8CA1-8971700AC405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D5D-7A99-40A8-A35A-1B645A96796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2005 CEN – all rights reser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fld id="{CA6D6D98-7D70-4EC0-BF1F-3254BBA99A9C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E7E7-A739-4A76-B03A-243599C63DA0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2DE1-02ED-475A-A3E9-2E0E46D17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5A83-C609-47D4-B18B-72B358EE4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F003-CF53-4F19-A7A2-48707C5E2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1BAE-742E-49D5-845C-82AEC564D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D0D2-9706-45B9-AD03-35413A0C2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E412A-3142-4DD5-AB6F-2CD9B19DEC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FFBE7-12E1-452E-9CF1-8DB3B34F61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E2FBE-831C-4B27-92BC-217168EA4B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00F91-6A94-4C39-B88B-7A645139A0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2DAA9-A7ED-4A99-8CC0-0D045ACD4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DB99-88A0-4A76-BF99-C16AC05C88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A9870-7810-4316-94E0-789FBE287B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84E8B-CD2E-4EBD-B476-E8DD66DEC1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A4BAB-8E31-4DF6-A97E-9251B8C8DC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41301-1161-46FA-9A0F-B74310034F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994C5-801D-46A2-B751-4B9C4E5DE6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ABD41-B3F4-409C-BCC5-95B172062D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35BFF-345D-43DF-90D5-1A73DEC16C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141B-1921-43C1-ADD6-74CD3C079B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1DA-E19B-4D0B-B90A-89231E83B9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F813-2E0B-4DD4-A7EB-DF10EF040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8B9F-15B5-49AE-8C01-AB1E7FB336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B3E3-5013-444A-A19D-5E8579E28D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855D-772F-4E42-BBE1-75D7ACACB0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11F8-6525-4355-96E5-9B98FC95D0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22C6-5FEE-445B-86E7-1B0733D6D9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9C28-E19F-4644-A8B3-FE1F81A7D5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804C-7FE5-4D92-89CF-DE3F88289F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22E8-A24E-427D-8BCC-01A6A116C0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79B8-5D01-4B12-8981-4279F2524D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8432-A474-4D8B-9583-0B35621D4D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D53F5-A44A-41F1-8957-A7CA31C70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6C68-EB0C-4A75-BFF9-143012773B7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1A6EF-9653-4697-9897-00480312A7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98586-4CF4-41D9-9F68-512D5FD2DDC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5B747-3BD7-4C58-A901-C5B1913A44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4F1D1-44C5-4BE9-A08B-3F38891CC8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6AE75-36E8-47B6-8335-604AC7E97C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AB980-8BB0-4A08-8CEF-CC1AB0AD15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F1285-731C-411D-A457-32C78932E8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3C62C-27F6-470D-9140-53033BB193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1039F-688A-498B-8C2F-13F09F4FE1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5C838-A6D4-4E13-ABAB-544AC4B15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FE15-9B3D-49DA-94A5-3BEE803FC49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3D4A8-76B1-4C2B-A1F8-B162802412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DB63F-0DDA-47FA-BCD3-A7A57CA5D0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1A06D-098F-4B36-8A93-3D67B1BB86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43743-8312-498B-9ECB-481089505B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4B9AA-B755-423F-AA73-01F359A6A8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EE8EE-E6DE-40D4-908A-DE7AD95B2C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93C69-DEE4-448C-9046-0261DE157F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C829C-F247-4DDE-B491-0F4A1C42BB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64C5B-60E2-45FF-A5D7-CB0662EE6A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C7942-A97A-4AF4-9C98-A2E23C655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A51F-403C-4DE7-93F1-60FBAE21A27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41D57-9DB7-4C83-87FB-0AF07CE9EF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010F8-C56D-4047-B931-2D4C40F90C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00506-B351-468D-8848-75E6B36718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6A9F-CD92-49A4-B28A-5AF7BEC265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36AD-94F3-439E-90B0-F85A1610FC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A2CB-9945-44C8-9432-DF0217CA35D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CAC4-37B6-4077-9B68-18892CF543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5E55-1289-4747-9319-00A808C1296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3386-3F59-4371-8416-E1FA32111E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0824-FEBF-4904-9405-714514579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1DD0-543D-48C7-B876-7DF2FB53A55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FF3B-99ED-4508-9AE2-4B8C3B018B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60A93-D26C-4E69-B7CF-E7DCDBB3C1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A749-A25E-4282-92F8-82A5B823D2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E51A5-39FA-41AB-81CC-C4685D634AF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1891-58A4-4083-85D5-AF22632185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6A337-562C-4090-A158-0BE08B0D32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E6AF7-8DED-4BCD-8885-805BE43C690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398BA-ABAB-4D7A-A537-3E1B236985E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062B3-CF15-4E78-B82C-203F2B8FEBE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412BE-1612-4D90-B423-E1D83F6E8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424B-BE17-4FC5-A413-47D31C663D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D2E00-9040-4AC4-AC7A-7928AB71476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CA443-6ADE-4837-98BD-7F98D503E17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F3AF2-DCA5-45BC-9E4D-2458E9AE3EC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A0815-9CAF-4A85-8A26-87CD7C1535F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814CE-99E7-4D1B-B4FE-87E095E9E7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E74FC-1959-4306-BA40-EE6B6F0B78C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BEE2F-D27B-4EB6-ACD2-F563498FF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A0B1B311-296C-450C-90BB-117C361C4C97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357120"/>
            <a:ext cx="2357280" cy="811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CEN_CENELEC-PPT_themes_V10+elements_ExtRelations_p13_PNG24.png"/>
          <p:cNvPicPr/>
          <p:nvPr/>
        </p:nvPicPr>
        <p:blipFill>
          <a:blip r:embed="rId3"/>
          <a:srcRect l="0" t="31594" r="28738" b="32743"/>
          <a:stretch/>
        </p:blipFill>
        <p:spPr>
          <a:xfrm>
            <a:off x="0" y="1341360"/>
            <a:ext cx="6516720" cy="25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9968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8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Name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Desig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B4B5E1D4-A9FB-4633-88FC-8B445F2F19FF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EN-CENELEC-PPT template_layouts_V04_logo.png"/>
          <p:cNvPicPr/>
          <p:nvPr/>
        </p:nvPicPr>
        <p:blipFill>
          <a:blip r:embed="rId3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E35372F1-F21D-45D3-87A1-D0D9AF687EFF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EACC3254-9468-496D-AABE-07DCE7B39C3D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0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5D4C1458-B263-48C3-9BE0-5A5160E685E0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EA2A001-6D12-4ED1-A54D-71EF960043C2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4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724D0622-63DC-4484-9A86-950C37F5DEE4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en.eu/" TargetMode="External"/><Relationship Id="rId2" Type="http://schemas.openxmlformats.org/officeDocument/2006/relationships/hyperlink" Target="http://www.cenelec.eu/" TargetMode="External"/><Relationship Id="rId3" Type="http://schemas.openxmlformats.org/officeDocument/2006/relationships/hyperlink" Target="mailto:adacosta@cencenelec.eu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400500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1st MEETING OF SCC </a:t>
            </a:r>
            <a:br>
              <a:rPr sz="2000"/>
            </a:b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(Art.64 of Regulation (EU) N° 305/2011)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4724280"/>
            <a:ext cx="8454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S AND STANDARDIZATION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0004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  <a:ea typeface="Verdana"/>
              </a:rPr>
              <a:t>Amilcar d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  <a:ea typeface="Verdana"/>
              </a:rPr>
              <a:t>CEN/CENELEC Programm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  <a:ea typeface="Verdana"/>
              </a:rPr>
              <a:t>2011-07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BE38-4330-431F-B007-8E31CC86DBF8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4005360"/>
            <a:ext cx="8407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CPR – Impact on Europea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oad map for the adaptation of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evision of model Annex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Information to Technical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afdb"/>
                </a:solidFill>
                <a:latin typeface="Arial"/>
                <a:ea typeface="Arial"/>
              </a:rPr>
              <a:t>Thank you! – Questions?</a:t>
            </a:r>
            <a:br>
              <a:rPr sz="4000"/>
            </a:br>
            <a:endParaRPr b="0" lang="en-US" sz="4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DF524728-98AF-44C2-A210-8EE54C39FD76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en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enelec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fdb"/>
                </a:solidFill>
                <a:latin typeface="Verdana"/>
              </a:rPr>
              <a:t>Amilcar da Costa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db"/>
                </a:solidFill>
                <a:latin typeface="Verdana"/>
              </a:rPr>
              <a:t>CEN/CENELEC Programme Manager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adacosta@cencenelec.eu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afdb"/>
                </a:solidFill>
                <a:latin typeface="Verdana"/>
              </a:rPr>
              <a:t>+32.2550.0974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</p:txBody>
      </p:sp>
      <p:pic>
        <p:nvPicPr>
          <p:cNvPr id="341" name="Picture 7" descr="MCj00787110000[1]"/>
          <p:cNvPicPr/>
          <p:nvPr/>
        </p:nvPicPr>
        <p:blipFill>
          <a:blip r:embed="rId4"/>
          <a:stretch/>
        </p:blipFill>
        <p:spPr>
          <a:xfrm>
            <a:off x="5572080" y="1571760"/>
            <a:ext cx="19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3:13Z</dcterms:created>
  <dc:creator>denmat</dc:creator>
  <dc:description/>
  <dc:language>en-US</dc:language>
  <cp:lastModifiedBy>CEN</cp:lastModifiedBy>
  <dcterms:modified xsi:type="dcterms:W3CDTF">2011-07-04T14:07:55Z</dcterms:modified>
  <cp:revision>72</cp:revision>
  <dc:subject/>
  <dc:title>Shaping European Standards</dc:title>
</cp:coreProperties>
</file>